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camera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905-D074-43FD-A64D-AADFDE45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443-3EE4-4CFE-AB50-AC419556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3B7-83B9-4536-A224-6CD62D4A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41B-0155-4D49-9DE1-1923DC47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35E-BAB6-4C88-A452-B0987681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889-1CFB-407A-B721-7279A62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C94-3035-49C1-8912-0E5501C3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5B2-0F2C-4831-BA94-5E61E89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E5A-E6CF-4B0E-A151-E2D470D8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D66-6B44-401A-9265-B68EE2B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89B-693E-41B7-97D7-0E09EDF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538-416D-4BE4-AF11-77E7B9A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0005-85DA-465E-A036-F57B7943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eachpol.tcnj.edu/amer_pol_hist/fi/000000b7.jpg&amp;imgrefurl=http://teachpol.tcnj.edu/amer_pol_hist/fi/000000b7.htm&amp;h=600&amp;w=419&amp;sz=121&amp;tbnid=4HAzp6BOkZEJ:&amp;tbnh=131&amp;tbnw=92&amp;start=3&amp;prev=/images%3Fq%3Dfrederick%2Bdouglass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edwardsly.com/women/grimke.jpg&amp;imgrefurl=http://www.edwardsly.com/grimkes.htm&amp;h=236&amp;w=199&amp;sz=15&amp;tbnid=Pk9ru7315SIJ:&amp;tbnh=103&amp;tbnw=87&amp;start=2&amp;prev=/images%3Fq%3Dsarah%2B%2526%2Bangelina%2Bgrimke%26hl%3Den%26lr%3D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math.buffalo.edu/~sww/0history/north.star.jpg&amp;imgrefurl=http://www.math.buffalo.edu/~sww/0history/hwny-douglass-family.html&amp;h=304&amp;w=519&amp;sz=68&amp;tbnid=cGBlja0aJhkJ:&amp;tbnh=74&amp;tbnw=126&amp;start=13&amp;prev=/images%3Fq%3Dabolitionist%2Bmovement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sdcoe.k12.ca.us/score/cwvm/anti%2520slavey%2520broadside.jpg&amp;imgrefurl=http://www.sdcoe.k12.ca.us/score/cwvm/exhibit3cw.htm&amp;h=243&amp;w=343&amp;sz=28&amp;tbnid=i5U2_SKPZ00J:&amp;tbnh=82&amp;tbnw=115&amp;start=6&amp;prev=/images%3Fq%3Dabolitionist%2Bmovement%26hl%3Den%26lr%3D" TargetMode="External"/><Relationship Id="rId8" Type="http://schemas.openxmlformats.org/officeDocument/2006/relationships/image" Target="../media/image4.jpeg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mera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chives.gov/grants/annotation/march_2002/images/lucretia_mott.jpg&amp;imgrefurl=http://www.archives.gov/grants/annotation/march_2002/lucretia_mott.html&amp;h=491&amp;w=311&amp;sz=24&amp;tbnid=gbd0v7dstNkJ:&amp;tbnh=126&amp;tbnw=80&amp;start=9&amp;prev=/images%3Fq%3Dlucretia%2Bmott%26hl%3Den%26lr%3D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 for Aboli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739600" y="152388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lled for the end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200" y="2209680"/>
            <a:ext cx="83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merican Colonization Society – Send African Americans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frica. (Lib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350532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avid Walk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4495680"/>
            <a:ext cx="42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lliam Lloyd Garris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35812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880" y="449568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Lib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5486400"/>
            <a:ext cx="757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erican Anti-Slavery Socie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53352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rederick Dougla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0020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ojourner Truth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666880"/>
            <a:ext cx="41148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arah &amp; Angelina Grimk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760" y="533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North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784600"/>
            <a:ext cx="39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eal to Christian Wome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5715000"/>
            <a:ext cx="6934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blems for Abolitionist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9000" y="304920"/>
            <a:ext cx="155088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22960" y="3276720"/>
            <a:ext cx="141444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990720"/>
            <a:ext cx="2514600" cy="147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40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8120" y="304920"/>
            <a:ext cx="748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s tolerate both violent &amp; non-violent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s within their own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rison called for equality of women, t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reate their own anti-slavery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2209680"/>
            <a:ext cx="5715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men's Right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089160"/>
            <a:ext cx="69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involvement in reform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riving to strike irons off, we found most sur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 were manacled ourselves.” – Abby Ke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50720" y="430848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journer Truth &amp; the Grimke sis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02920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men Declare Their Right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961640" y="5756400"/>
            <a:ext cx="48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rage &amp; property rights ke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1295280"/>
            <a:ext cx="4219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izabeth Cady Stant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680" y="19810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ucretia Mo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0492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eca Falls Conven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886400" y="2631960"/>
            <a:ext cx="50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48 Seneca Falls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men &amp; women at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advancing the rights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43000" y="3962520"/>
            <a:ext cx="651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claration of Sentiment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979280" y="4800600"/>
            <a:ext cx="345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rights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&amp; custody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o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130644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94800" y="60958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ps.gov/wori/declaratio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4572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ucy Ston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6680" y="1143000"/>
            <a:ext cx="50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&amp; Women’s rights activ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d old 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pt maide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5146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usan B. Antho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32680" y="3241800"/>
            <a:ext cx="54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d for equal opportunity &amp; equal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bring movement to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43434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rried Women's Property Act (1848)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1813680" y="5146560"/>
            <a:ext cx="56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d by Stanton &amp; Anthony in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an own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357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3:37:00Z</dcterms:created>
  <dc:creator>nalbert</dc:creator>
  <dc:description/>
  <dc:language>en-US</dc:language>
  <cp:lastModifiedBy>nalbert</cp:lastModifiedBy>
  <dcterms:modified xsi:type="dcterms:W3CDTF">2007-12-03T19:08:12Z</dcterms:modified>
  <cp:revision>12</cp:revision>
  <dc:subject/>
  <dc:title>PowerPoint Presentation</dc:title>
</cp:coreProperties>
</file>